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jpeg" ContentType="image/jpeg"/>
  <Override PartName="/ppt/media/image7.wmf" ContentType="image/x-wmf"/>
  <Override PartName="/ppt/media/image9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B6C-6D73-4084-829D-C9DDF606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800-C566-4C1C-9CFB-C389BF27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D86EF-C4B3-4E02-ADCE-8BED3353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5F12C-9FCF-4372-A54A-117E43DA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E0366-B19A-44EF-9AE0-FDEF4752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EEF31-9A34-4A89-A28B-8C300C34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6E99C-0BE5-413F-8118-7518EBC8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AB3F5-7FCC-452E-8950-3FFB88B1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DA558-BCC6-4B93-B47D-6E8D93B3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1F9E7-46DF-412A-9B9B-65F8422C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03102-58F4-4F7D-AC0F-D3FF25DE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58B4A-F26E-4342-AC75-4AED134E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C70-12F0-4EB3-949E-9E27894D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5989C-2FE8-4EB1-B1B4-2B3802A6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4E33E-8A62-41DF-8539-A311ACCE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33AFF-F1B4-4DFC-8929-A77A4966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EA3FC-38BB-4434-8888-F5CB868E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90039-8FFE-4F53-BAE3-F96315AE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F5B3B-DFA9-4736-9584-D38997FF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EEEA3-38E6-4D7D-931B-C9AB5394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A095A-6423-413D-9DCA-09FB761D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0CA0A-1DC3-482F-B192-EBB96AC2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82CD8-D4A4-407E-9F35-C1D5C4B5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FD8-D831-4ADB-8DB9-646A0035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9FB0D-0620-4355-BC32-9D2B53CC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5F78A-FD70-481D-919B-31889F60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A19C9-71D6-4D60-A2BD-3D42FF35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22DA3-DE54-43D5-B231-AF16F785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EFC56-4FD2-4CFA-A05C-B5A1D31D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076A0-B5D9-4883-B7C5-88B8E5A4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566CF-CA01-4630-B45C-58F97F25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E4883-10EE-43B1-8288-EA07ACE1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21C5F-7746-4FE8-92A5-FA98E61B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BE660-8DA0-49B1-8F9C-91843CB0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1D2F-1FE7-4CF7-8F7A-122C4733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BCF38-B1FE-4331-B7CF-31D70929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E3390-7B5B-4B30-9BB1-0485854C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A07E5-AE31-4C60-8BE0-0BFA5812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3CBF3-592D-4AA1-8384-6A50089D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7A2E8-CAD1-48A6-A679-102BF01C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473EA-D9E2-4EEC-B603-489EE2E7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EB25D-D60B-42C9-99C4-69A33CEC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2A1BF-46A0-4630-B04F-B3275351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1F3E9-784A-49D4-9585-22240567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32C8E-DA27-4235-89B3-823C1AD9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C73D-F8BB-4646-B8D4-13483122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5160D-64E1-4156-9223-B04234B7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70C13-5413-4490-944D-93BABC37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B4464-9354-45F9-BB21-3742C7A2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80890-4BE0-48C7-A698-08838791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BEB98-2458-4B1F-B565-BA052BC8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4C22B-B83D-46EB-A7D6-BFD12622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40C623-B697-4DA8-93A9-FE10BAE7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DA2CB-F83E-479A-B019-64177FFE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E9553-DDA0-425E-A662-424DA86C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32AFA-BF04-40E8-8B01-D8B96F4D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54C2-D0EF-4F0F-A5E3-3ABB819F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C8F41-7299-4ADA-B12E-364879CE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C59E6-56B1-4D6C-96FE-293BF64D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357E0-4682-4C99-A5D3-D49DF573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AECB0-4ABC-401E-9E95-F85E3AC0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2446E-21CE-4052-8080-009650A7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B2F69-CBF7-4DBA-BECF-7CCE8F86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02816-28ED-43D4-843A-6E38A3EF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CD89-4DBB-401B-B135-5F4277EE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7BD4-B5E4-4517-A13B-879B86B6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FFFE-FD72-4F78-907B-CB9BEAA6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773A-F103-4FB2-A16F-410E4BC1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C9E-BB0A-4B5C-B244-C63BDAD2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E290-D1E6-4F9D-A52E-907B538F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EEC7-7661-4BBE-BC16-3F3243B5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B2F2-2DA9-4322-A9EA-9819BC6F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D5C0-796F-4D6A-90A8-122262F0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73AA-66BC-456C-A464-AB5C2380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87EB0-AD3C-4B9E-B29A-B1A66C48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8D82-E844-4495-B662-BEF28BFE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9B92-4151-4D7A-A7B8-FFBC4E63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2AB3F-CE6C-4D10-A14E-E781D4B0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1CEE-74FD-446E-9FA2-01D9896D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BE9-8637-43A7-B35F-36A74B2F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28508-369C-45A1-8B29-1DB5543D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60DCB-B4F4-4151-90EA-A2C62309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E9A5C-F61D-4C60-980D-F692EE9C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D450-0E0A-4B45-B8D7-54CF7068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C3857-79FE-4CD2-B765-4AD9CB63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91F9-304D-4C07-A155-56BCA31E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A5C22-670B-4F42-92EB-5808ABC7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8C451-A2DA-4C8B-8141-952BA7AE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4C433-DB4C-4324-8670-FCA4FFCC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56774-681B-412E-9B90-533B3719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608-8873-483A-A840-7DA9ABC2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46FE4-8EC2-485E-B983-F7E52BF7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BADD5-DABE-43E9-9E39-ECB9D079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71A01-C560-4E3B-8154-795A1CC6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97A52-1B41-4F51-B1A1-FF2E0BA5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4D37C-597F-46F4-ABB1-5A1DB052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83729-2F82-4986-8A95-0B75B784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76EF1-D7B7-4D52-8515-5C5EBF99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F5360-50CA-49ED-9729-52E9141A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86D63-54E9-4D6B-99A7-C8ADE809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A1D83-77BA-4FF3-8A93-7AE3E4B5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91B-0BA0-4625-B043-82F8338C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79D75-7901-4D69-9F35-F38C733A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9A5FA-B13B-48CC-97ED-CABE5348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39EAB-B4FF-4E58-BD86-08322D47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FDA8B-2764-4D20-8F41-327BE010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CB093-B7F7-4AB4-81EE-A763D440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5AFC6-FC58-4281-89D5-312E0CDD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5243A-D123-4C28-B83F-0DDAD2B4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AF3DD-1632-4AFC-BCD9-D6ABD265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6FA6C-3313-4BD3-A256-9F2EF78D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C160F-43F7-4C66-A659-D6A49A12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BD2-37E1-4A1A-9EDA-5279A0DC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F2389-6866-4396-B135-2F5E21C6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4853D-6471-4F70-81A9-7088AF9B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A666F-5198-4A7D-A891-1393E68B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D8279-467C-4B48-A555-8BCB7FD2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494C5-7714-4032-90DF-FA80FE44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40D38-AB64-4CEC-9669-4060BE40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00FF8-E197-4739-B8E7-38191262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6DC5B-9670-403D-8F16-680A0D14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9A6E3-7BC4-44CE-BEAD-3CD05753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CB8FC-A887-4710-B3CB-8BF61E68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660-7FCA-4B55-887C-583AC296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57187-EA70-4AF7-8AC2-8B817C7B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79219-9FF1-462A-B8E9-11565987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D83C0-AB42-4E6D-BA7A-E2A4F8BA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014BE-2A9D-4341-B34A-E181204F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FF7BF-E219-41C8-8F5E-2D38CBD7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1EA41-9568-496E-A283-96C496FB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8235B-AC53-40D6-8775-A7D6DC68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CF720-A8F1-448F-9F19-4FD878C7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BDD77-A9E0-4611-B973-2C9D5C42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3CFC9-1A6C-4962-AED5-4EEA488D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C12-BCDA-4CC7-B39F-3598F019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1E660-C02E-43DF-9A1F-F1EC1560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3EFEA-9C6B-4989-A5A1-7D6AAA23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653E5-7523-47EE-9AA1-7012ED12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599C7-586B-4699-9587-93F00687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2445A-53A9-4F48-96E1-50773B22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81B87-D261-414B-B748-C7FA5C51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BDD70-072F-4874-8663-978E84A1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91F84-2BB9-410B-9C1E-A20146E4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F52B8-B9A2-4CD3-81FA-35C6D439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35D94-1EAB-49DF-AA1D-95037605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C12-9FFD-49E5-8853-30DA5EA8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40E5A-27CD-44F1-AC47-CD12D442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B96B6-E954-489B-823B-8DCB3695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F606D-139D-48DD-95F8-9C6FA68B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739E5-0710-457B-A631-1E5182A6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77239-AD71-45A0-98DB-CF023CAB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1B3FC-BBBA-40A4-838A-0ABB1194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91620-1F19-4509-8AE2-C7943A02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ED487-10FA-4264-A3E9-290665FA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7B92A-548B-47EB-A791-E085FD65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D1785-5F6E-4585-B9C4-BB3588D6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7BA6-8BCD-499F-A8C2-8E1FC9958C4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3" descr=""/>
          <p:cNvPicPr/>
          <p:nvPr/>
        </p:nvPicPr>
        <p:blipFill>
          <a:blip r:embed="rId3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Slika 3" descr=""/>
          <p:cNvPicPr/>
          <p:nvPr/>
        </p:nvPicPr>
        <p:blipFill>
          <a:blip r:embed="rId3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6" name="Slika 3" descr=""/>
          <p:cNvPicPr/>
          <p:nvPr/>
        </p:nvPicPr>
        <p:blipFill>
          <a:blip r:embed="rId4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C863-CC88-477B-ADC4-9B0CECC7BEE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Slika 3" descr=""/>
          <p:cNvPicPr/>
          <p:nvPr/>
        </p:nvPicPr>
        <p:blipFill>
          <a:blip r:embed="rId3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29" name="Slika 3" descr=""/>
          <p:cNvPicPr/>
          <p:nvPr/>
        </p:nvPicPr>
        <p:blipFill>
          <a:blip r:embed="rId4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59AE-D973-4EAB-A338-5707B397CCF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Slika 3" descr=""/>
          <p:cNvPicPr/>
          <p:nvPr/>
        </p:nvPicPr>
        <p:blipFill>
          <a:blip r:embed="rId3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2" name="Slika 3" descr=""/>
          <p:cNvPicPr/>
          <p:nvPr/>
        </p:nvPicPr>
        <p:blipFill>
          <a:blip r:embed="rId4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CC03-4602-45A7-976F-13B7E81C2BE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Slika 3" descr=""/>
          <p:cNvPicPr/>
          <p:nvPr/>
        </p:nvPicPr>
        <p:blipFill>
          <a:blip r:embed="rId3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5" name="Slika 3" descr=""/>
          <p:cNvPicPr/>
          <p:nvPr/>
        </p:nvPicPr>
        <p:blipFill>
          <a:blip r:embed="rId4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C42D-FA61-4311-A22F-8A5EBB5CF3D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AB21-B1C4-4E74-A941-7099F004C45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lika 3" descr=""/>
          <p:cNvPicPr/>
          <p:nvPr/>
        </p:nvPicPr>
        <p:blipFill>
          <a:blip r:embed="rId3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Slika 3" descr=""/>
          <p:cNvPicPr/>
          <p:nvPr/>
        </p:nvPicPr>
        <p:blipFill>
          <a:blip r:embed="rId3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5" name="Slika 3" descr=""/>
          <p:cNvPicPr/>
          <p:nvPr/>
        </p:nvPicPr>
        <p:blipFill>
          <a:blip r:embed="rId4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2F6E-A4D5-41A1-9612-172B604F4FA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lika 3" descr=""/>
          <p:cNvPicPr/>
          <p:nvPr/>
        </p:nvPicPr>
        <p:blipFill>
          <a:blip r:embed="rId3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8" name="Slika 3" descr=""/>
          <p:cNvPicPr/>
          <p:nvPr/>
        </p:nvPicPr>
        <p:blipFill>
          <a:blip r:embed="rId4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DC0F-3D64-4399-AEA6-1154947BD59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Slika 3" descr=""/>
          <p:cNvPicPr/>
          <p:nvPr/>
        </p:nvPicPr>
        <p:blipFill>
          <a:blip r:embed="rId3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71" name="Slika 3" descr=""/>
          <p:cNvPicPr/>
          <p:nvPr/>
        </p:nvPicPr>
        <p:blipFill>
          <a:blip r:embed="rId4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9BE5-8888-40F4-8ADC-0164F6CFF9B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Slika 3" descr=""/>
          <p:cNvPicPr/>
          <p:nvPr/>
        </p:nvPicPr>
        <p:blipFill>
          <a:blip r:embed="rId3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4" name="Slika 3" descr=""/>
          <p:cNvPicPr/>
          <p:nvPr/>
        </p:nvPicPr>
        <p:blipFill>
          <a:blip r:embed="rId4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BEE3-D565-42F5-8F9E-ED3CA6B4DFB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Slika 3" descr=""/>
          <p:cNvPicPr/>
          <p:nvPr/>
        </p:nvPicPr>
        <p:blipFill>
          <a:blip r:embed="rId3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7" name="Slika 3" descr=""/>
          <p:cNvPicPr/>
          <p:nvPr/>
        </p:nvPicPr>
        <p:blipFill>
          <a:blip r:embed="rId4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25ED-C5DC-4A47-A07F-E810EF4A72A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Slika 3" descr=""/>
          <p:cNvPicPr/>
          <p:nvPr/>
        </p:nvPicPr>
        <p:blipFill>
          <a:blip r:embed="rId3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00" name="Slika 3" descr=""/>
          <p:cNvPicPr/>
          <p:nvPr/>
        </p:nvPicPr>
        <p:blipFill>
          <a:blip r:embed="rId4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7CDF-24DB-4535-B6E9-AC522594213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Slika 3" descr=""/>
          <p:cNvPicPr/>
          <p:nvPr/>
        </p:nvPicPr>
        <p:blipFill>
          <a:blip r:embed="rId3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3" name="Slika 3" descr=""/>
          <p:cNvPicPr/>
          <p:nvPr/>
        </p:nvPicPr>
        <p:blipFill>
          <a:blip r:embed="rId4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3224-905B-4604-A4A5-9E532D979DC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5.png"/><Relationship Id="rId5" Type="http://schemas.openxmlformats.org/officeDocument/2006/relationships/image" Target="../media/image3.gi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2.jpe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asu mjerimo vag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9" name="Slika 3" descr=""/>
          <p:cNvPicPr/>
          <p:nvPr/>
        </p:nvPicPr>
        <p:blipFill>
          <a:blip r:embed="rId1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250560" y="1341000"/>
            <a:ext cx="88693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as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nepromjenjivo svojstvo tij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značujemo je znakom 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skazujemo mjernom jedinicom kilogram (znak k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asa tijela često se izražava i drugim mjernim jedinic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Slika 3" descr=""/>
          <p:cNvPicPr/>
          <p:nvPr/>
        </p:nvPicPr>
        <p:blipFill>
          <a:blip r:embed="rId6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62" name="Slika 1" descr=""/>
          <p:cNvPicPr/>
          <p:nvPr/>
        </p:nvPicPr>
        <p:blipFill>
          <a:blip r:embed="rId7"/>
          <a:stretch/>
        </p:blipFill>
        <p:spPr>
          <a:xfrm>
            <a:off x="2195640" y="4038480"/>
            <a:ext cx="534168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rojčani odnosi među mjernim jedincama ma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 kg = 100 dag = 1000 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 t = 1000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 mg = 0,000 001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 g = 0,001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 dag = 0,01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Slika 2" descr=""/>
          <p:cNvPicPr/>
          <p:nvPr/>
        </p:nvPicPr>
        <p:blipFill>
          <a:blip r:embed="rId2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3240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asa tijela ostaje očuvan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tijelo premještamo po Zemlji s jednog mjesta na drugo, sa Zemlje na Mjesec ili nekamo daleko u svem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Slika 3" descr=""/>
          <p:cNvPicPr/>
          <p:nvPr/>
        </p:nvPicPr>
        <p:blipFill>
          <a:blip r:embed="rId1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33440" y="16333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nate li vagati pomoću vage s utezi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pišite postupak vagan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5" descr="SnapShot(18).jpg"/>
          <p:cNvPicPr/>
          <p:nvPr/>
        </p:nvPicPr>
        <p:blipFill>
          <a:blip r:embed="rId3"/>
          <a:srcRect l="9186" t="10732" r="6299" b="0"/>
          <a:stretch/>
        </p:blipFill>
        <p:spPr>
          <a:xfrm>
            <a:off x="208080" y="3394080"/>
            <a:ext cx="4651200" cy="2765520"/>
          </a:xfrm>
          <a:prstGeom prst="rect">
            <a:avLst/>
          </a:prstGeom>
          <a:ln w="0">
            <a:noFill/>
          </a:ln>
        </p:spPr>
      </p:pic>
      <p:pic>
        <p:nvPicPr>
          <p:cNvPr id="569" name="Slika 3" descr=""/>
          <p:cNvPicPr/>
          <p:nvPr/>
        </p:nvPicPr>
        <p:blipFill>
          <a:blip r:embed="rId4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70" name="Pravokutnik 1"/>
          <p:cNvSpPr/>
          <p:nvPr/>
        </p:nvSpPr>
        <p:spPr>
          <a:xfrm>
            <a:off x="179280" y="878040"/>
            <a:ext cx="848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Za vaganje nam treb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ag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a ponekad i ute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Slika 2" descr=""/>
          <p:cNvPicPr/>
          <p:nvPr/>
        </p:nvPicPr>
        <p:blipFill>
          <a:blip r:embed="rId5"/>
          <a:stretch/>
        </p:blipFill>
        <p:spPr>
          <a:xfrm>
            <a:off x="5205240" y="3314880"/>
            <a:ext cx="376272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178920" y="981000"/>
            <a:ext cx="4032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a je masa pribadač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odrediti masu predmeta vrlo male ma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3" descr="SnapShot(117).jpg"/>
          <p:cNvPicPr/>
          <p:nvPr/>
        </p:nvPicPr>
        <p:blipFill>
          <a:blip r:embed="rId3"/>
          <a:stretch/>
        </p:blipFill>
        <p:spPr>
          <a:xfrm>
            <a:off x="4211640" y="2154240"/>
            <a:ext cx="4532400" cy="2550960"/>
          </a:xfrm>
          <a:prstGeom prst="rect">
            <a:avLst/>
          </a:prstGeom>
          <a:ln w="0">
            <a:noFill/>
          </a:ln>
        </p:spPr>
      </p:pic>
      <p:pic>
        <p:nvPicPr>
          <p:cNvPr id="574" name="Slika 3" descr=""/>
          <p:cNvPicPr/>
          <p:nvPr/>
        </p:nvPicPr>
        <p:blipFill>
          <a:blip r:embed="rId4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Kolika je masa udžbeni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uhinjska vaga: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 =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ućna vaga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 =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e je od ovih mjerenja precizni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Slika 2" descr=""/>
          <p:cNvPicPr/>
          <p:nvPr/>
        </p:nvPicPr>
        <p:blipFill>
          <a:blip r:embed="rId6"/>
          <a:stretch/>
        </p:blipFill>
        <p:spPr>
          <a:xfrm>
            <a:off x="-2376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78920" y="347400"/>
            <a:ext cx="871380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. Svoju masu iskažite različitim mjernim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inic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. Masu kita i masu miša iskažite u kilogramim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atke nađite u tablici u knjiz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3. Procijenite pa izmjerite masu lista papira.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asu iskažite u kilogrami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79" name="Slika 1" descr=""/>
          <p:cNvPicPr/>
          <p:nvPr/>
        </p:nvPicPr>
        <p:blipFill>
          <a:blip r:embed="rId5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2:51:55Z</dcterms:created>
  <dc:creator>Mladen Vidović</dc:creator>
  <dc:description/>
  <dc:language>en-US</dc:language>
  <cp:lastModifiedBy>MArina Dumančić</cp:lastModifiedBy>
  <dcterms:modified xsi:type="dcterms:W3CDTF">2019-09-13T20:59:11Z</dcterms:modified>
  <cp:revision>60</cp:revision>
  <dc:subject/>
  <dc:title>MJERENJE MASE</dc:title>
</cp:coreProperties>
</file>